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499-71F2-48E8-A077-A06B7427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BCC-1ABC-474F-B9B7-1E6E615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CDB-5862-42C9-B465-2DD43F19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36A-A1BD-4050-80D9-7A529D7F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90D-B1C2-4F7B-AFD2-950E1E9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BB1-7A9F-431C-AACC-8DBC66B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53E-C3EA-477F-B844-58492FD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D80-A2B4-4ABC-8FFA-75AE7BC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2FE-6098-40F3-80B9-8114BF9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39B-0DB1-475A-9AEB-3D3E2C6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078-B759-4FFC-B26F-8DAD3B4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557-7193-4EB5-B790-E2ECF9E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B056-AD18-4C54-BCF2-AE56BA29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During the New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5053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ustine Coleman and Dina N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shepsut's Famil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Wife_____Thutmose I ____Great Royal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m Wife ___ Thutmose II (50% royal) ___Hatshepsut(100% roy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tmose III (25% royal) _______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for Rule During the New King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0 B.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1500 B.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1200 B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567 B.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C 1085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3-1482 Queen Hatshepsut r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4-1450 Reign of Thutmose III; empire expands into Sy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7:08Z</dcterms:created>
  <dc:creator>Default</dc:creator>
  <dc:description/>
  <dc:language>en-US</dc:language>
  <cp:lastModifiedBy>Default</cp:lastModifiedBy>
  <dcterms:modified xsi:type="dcterms:W3CDTF">2009-01-12T18:02:56Z</dcterms:modified>
  <cp:revision>10</cp:revision>
  <dc:subject/>
  <dc:title>Rule During the New Kingdom</dc:title>
</cp:coreProperties>
</file>